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18.jpeg" ContentType="image/jpeg"/>
  <Override PartName="/ppt/media/image16.png" ContentType="image/png"/>
  <Override PartName="/ppt/media/image8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9BEB-E65F-4186-B0C8-DC6ECD0E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826A-1ED8-4406-B59B-DAA93944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FDB-87F1-4FBB-9098-4E7B08CB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FB2C-54E0-4123-B5A6-A411DA3A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976F-22F8-42CD-94C0-6425FEB9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603-958F-4510-8662-3393D184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E2B1-7CDF-4436-9F2E-281B1B48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DD1E-FB7E-41DF-89BA-68CC162F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7B5-464F-46B6-A2F5-54D04F7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86A9-4A98-4F2E-8393-5ACC14F2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6BEB-B5D8-4D9A-B5AA-B408895A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EE7-1B64-4237-AF6A-673DF620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2F1F-E570-4488-B2E2-D19295D1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DA6E-C0CD-412B-8910-1DD3F0C3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2E6F-81A8-4E1C-9205-70B14F0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4A46-098F-4A58-BC5C-43B0FEE0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B8D1-B001-4107-ADD2-1308953B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53385-0292-4490-B5C1-961B6836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76B1-048E-4973-801E-3A28AC6C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2E7C7-5C91-42B6-A3CE-5AC0EB2E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52A79-867E-4BB0-BFD6-EAEA62D6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DCD1C-9C0C-484D-A1AD-CC002177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863-9E39-47E0-8DB6-DD2AAA9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D73F-E084-4995-B5D6-2FAEBD5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B9BA4-C9D7-44D6-8D60-278AD77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F6D60-9077-46C3-836B-05CD3EE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0B8D2-5243-4BD2-A896-6B179CFF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E774-1E43-4EFA-AF25-52CD8B1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F88F-7B28-4723-A877-829FEC37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2FB9-43CD-4380-8E2B-F5F3B067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1A63-F7FE-4112-B3DD-5A6403F4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AC912-8267-4EAA-B764-12795DA1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A54BA-4B34-491B-BBF2-5B1DAAAC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EFB-FB32-4769-B887-7C7032F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25E1-D771-4998-AEBB-2FF65B7B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5E3F-9B67-4D3A-B980-1B5D063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6DD03-DE80-417C-AEC1-C33030F7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73FC-7427-4964-AAAC-4145F263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1298-8814-4689-9B49-6A2709F8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D7BF-AE0F-45A6-9B1B-FE2DDA77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8942-17FB-4A88-89B4-686726C4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DA9C7-F90E-493C-8863-0582BE4F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D192-B627-46D7-8937-99EDBD22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0FA-9BA4-4BA5-9C98-DAE7B11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BB4-A1BD-4C33-83D4-FC234B5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508-F790-4895-A574-86A3FF42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F0E-4B53-4980-9ED8-6B4F277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5D3-86C5-4965-BC9C-D1C29067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E0A0-F808-4C66-B43E-2BD0C068189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C17E-2A17-4384-BB2C-885C46B60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4C48-7EB2-41CC-BABD-01A54BE32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8C1-B4DC-4939-AEA6-84027A0D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20718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МЕКИХ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2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2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18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ЕРИКОРОНАРНО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1520" y="14130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и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ица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луимпакт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ун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к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енцио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атк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ронич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егзацерб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24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уже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суст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сорп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рикоронар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шир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ародонтал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ntitio deffic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еб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ипич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штинс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сразмер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лич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рм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к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луз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в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корон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џеп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ен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та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гзацерб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готрај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њ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ут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PERICORONITIS 2"/>
          <p:cNvPicPr/>
          <p:nvPr/>
        </p:nvPicPr>
        <p:blipFill>
          <a:blip r:embed="rId2"/>
          <a:stretch/>
        </p:blipFill>
        <p:spPr>
          <a:xfrm>
            <a:off x="5940360" y="1341360"/>
            <a:ext cx="2344680" cy="2374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PERICORONITIS- CRTEZ"/>
          <p:cNvPicPr/>
          <p:nvPr/>
        </p:nvPicPr>
        <p:blipFill>
          <a:blip r:embed="rId3"/>
          <a:stretch/>
        </p:blipFill>
        <p:spPr>
          <a:xfrm>
            <a:off x="5867280" y="3887640"/>
            <a:ext cx="2417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364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У ПРЕДЕЛУ НЕП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ФОСЕ КАН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 РЕТРОМАКСИЛАРНОГ ПРО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ЕП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о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атинал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ож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р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могућ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ај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вац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ови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пц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бо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лулопт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зистен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ластич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с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раже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еноме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иперемич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ивид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им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хра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дразумев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пор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тибиотици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ANd9GcTvFKBZt9Vg7qx4EApYZEWnhhKGiyf2MicDxKDpuPwjyKZ6jHZu"/>
          <p:cNvPicPr/>
          <p:nvPr/>
        </p:nvPicPr>
        <p:blipFill>
          <a:blip r:embed="rId2"/>
          <a:stretch/>
        </p:blipFill>
        <p:spPr>
          <a:xfrm>
            <a:off x="5367240" y="2076480"/>
            <a:ext cx="331956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ЧЊАЧКЕ ЈА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1480680"/>
            <a:ext cx="514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чке ја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кси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урунку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о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в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висн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лиз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нос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ц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ро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б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г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409720" y="1066680"/>
            <a:ext cx="3048120" cy="271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Gray157"/>
          <p:cNvPicPr/>
          <p:nvPr/>
        </p:nvPicPr>
        <p:blipFill>
          <a:blip r:embed="rId3"/>
          <a:stretch/>
        </p:blipFill>
        <p:spPr>
          <a:xfrm>
            <a:off x="5410080" y="1103400"/>
            <a:ext cx="3353040" cy="275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untitled1329950000757"/>
          <p:cNvPicPr/>
          <p:nvPr/>
        </p:nvPicPr>
        <p:blipFill>
          <a:blip r:embed="rId4"/>
          <a:stretch/>
        </p:blipFill>
        <p:spPr>
          <a:xfrm>
            <a:off x="6046920" y="3919680"/>
            <a:ext cx="2203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УКАЛ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3840" y="1052280"/>
            <a:ext cx="60199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 букалног простора потичу од бочних зуба гор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 исто тако и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захвата читав предео образа када инфекција потиче од бочних зуба гор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 чему гној пробија периост изнад припоја образне мускулатуре на горњој вил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стресито везивно и масно ткиво образа погодују ширењу 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 иде од предње ивице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asseter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 горње усне и носа и доњег очног 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 се његова доња граница пружа до базе 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 образ је тврде конзистен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 болан на 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жа је затегну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јајна и црве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 се појавити висока температура и грозн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 образа треба што је могуће раније отворити интраорал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SKIN%20ABSCESS"/>
          <p:cNvPicPr/>
          <p:nvPr/>
        </p:nvPicPr>
        <p:blipFill>
          <a:blip r:embed="rId2"/>
          <a:stretch/>
        </p:blipFill>
        <p:spPr>
          <a:xfrm>
            <a:off x="6116760" y="3860640"/>
            <a:ext cx="2495520" cy="208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Subcutaneous%2Babscess%2Boriginating%2Bfrom%2Ba%2Bmandibular%2Btooth%2Bclinical%2Bphotograph"/>
          <p:cNvPicPr/>
          <p:nvPr/>
        </p:nvPicPr>
        <p:blipFill>
          <a:blip r:embed="rId3"/>
          <a:srcRect l="6942" t="0" r="0" b="0"/>
          <a:stretch/>
        </p:blipFill>
        <p:spPr>
          <a:xfrm>
            <a:off x="6116760" y="1628640"/>
            <a:ext cx="252252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15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ЕТРОМАКСИЛАРНОГ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587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убе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ато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јагност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ређе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адију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с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напредовал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раорал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ет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перем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tuber maxillae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њ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ч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раж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арман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узима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040" y="188640"/>
            <a:ext cx="84981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ДЕЛУ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АД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ТЕРИГОМАНДИБУЛАР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ОМАСЕТЕРИЧ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afp19990701p109-f5"/>
          <p:cNvPicPr/>
          <p:nvPr/>
        </p:nvPicPr>
        <p:blipFill>
          <a:blip r:embed="rId3"/>
          <a:stretch/>
        </p:blipFill>
        <p:spPr>
          <a:xfrm>
            <a:off x="5638680" y="4235400"/>
            <a:ext cx="2914920" cy="2246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Pterygomandibular-Abscess"/>
          <p:cNvPicPr/>
          <p:nvPr/>
        </p:nvPicPr>
        <p:blipFill>
          <a:blip r:embed="rId4"/>
          <a:stretch/>
        </p:blipFill>
        <p:spPr>
          <a:xfrm>
            <a:off x="5773680" y="1143000"/>
            <a:ext cx="2608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628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ЕРИМАНДИБУЛАР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1040" y="1166400"/>
            <a:ext cx="8560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ч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п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ч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ка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руч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ев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ациј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в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ћ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ш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његов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х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имандибулар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РАДНОГ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РЕД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ња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е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чни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ењ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л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кус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фек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у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игр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сец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д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е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витализа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ронт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њен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миненци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но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покретн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0960" y="1484280"/>
            <a:ext cx="805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еспецифич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пад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учесталиј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ољењ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ија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екунд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б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i="1" lang="sr-Latn-RS" sz="2400" spc="-1" strike="noStrike">
                <a:solidFill>
                  <a:srgbClr val="025198"/>
                </a:solidFill>
                <a:latin typeface="Arial"/>
              </a:rPr>
              <a:t>paradontitis apicalis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ки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кив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хтев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лазно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ес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мртв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тпор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пар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шупљи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3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 сублингвалне ложе може настати од свих зуба доње вил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 гној перфорира коштано ткиво изнад припоја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musculus m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loh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oideus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 врло често потиче од пародонталних 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атомска грађа алвеоларног наставка и релативно танак коштани зид у пределу бочних зуба омогућава ширење инфекције ка сублингвалном 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 овог простора може бити последица повреда слузокоже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лкулуса у Вартоновом 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(W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arton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 и инфицираних циста у меким ткивима пода 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ANd9GcRamEpxMWwVbP7r8duD7xg3MALYHSoD090Zv0GlZI2mYuC1mBnH"/>
          <p:cNvPicPr/>
          <p:nvPr/>
        </p:nvPicPr>
        <p:blipFill>
          <a:blip r:embed="rId2"/>
          <a:stretch/>
        </p:blipFill>
        <p:spPr>
          <a:xfrm>
            <a:off x="5148360" y="1844640"/>
            <a:ext cx="3620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УБЛИНГВ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118880"/>
            <a:ext cx="885672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е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толош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цес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п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донт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кцио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вр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ој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л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укоз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и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Plica sublingu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вк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сеудомембран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мер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драв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напредова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о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љ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р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ле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израже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укту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87080" y="1699920"/>
            <a:ext cx="64911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а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</a:t>
            </a:r>
            <a:r>
              <a:rPr b="0" lang="sr-RS" sz="2400" spc="-1" strike="noStrike">
                <a:solidFill>
                  <a:srgbClr val="025198"/>
                </a:solidFill>
                <a:latin typeface="Arial"/>
              </a:rPr>
              <a:t>ј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лоаден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лечн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уб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ANd9GcTQ-ak6A6kPxTIfvW5anXY503pDIDJxvNKCOrfs4SDj1-nnfTn0"/>
          <p:cNvPicPr/>
          <p:nvPr/>
        </p:nvPicPr>
        <p:blipFill>
          <a:blip r:embed="rId2"/>
          <a:stretch/>
        </p:blipFill>
        <p:spPr>
          <a:xfrm>
            <a:off x="6084720" y="2708280"/>
            <a:ext cx="2428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43000"/>
            <a:ext cx="532764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с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шт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ои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ноклеидомастоид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иш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п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м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лате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г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тиј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аж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нстат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bscess_342x198_BR1T2D"/>
          <p:cNvPicPr/>
          <p:nvPr/>
        </p:nvPicPr>
        <p:blipFill>
          <a:blip r:embed="rId2"/>
          <a:stretch/>
        </p:blipFill>
        <p:spPr>
          <a:xfrm>
            <a:off x="5580000" y="1484280"/>
            <a:ext cx="3276720" cy="1898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ANd9GcREYll3M0pByT0nEkTCAGu93NSsr5AXzfXwEsRrID7Ix28j3Xdx"/>
          <p:cNvPicPr/>
          <p:nvPr/>
        </p:nvPicPr>
        <p:blipFill>
          <a:blip r:embed="rId3"/>
          <a:stretch/>
        </p:blipFill>
        <p:spPr>
          <a:xfrm>
            <a:off x="5580000" y="3789360"/>
            <a:ext cx="3276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УБМАНДИБУЛАРНОГ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5741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25198"/>
                </a:solidFill>
                <a:latin typeface="Arial"/>
              </a:rPr>
              <a:t>Инцизија-антибиотици-хоспит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Neck_Abscess_Child_305SQ"/>
          <p:cNvPicPr/>
          <p:nvPr/>
        </p:nvPicPr>
        <p:blipFill>
          <a:blip r:embed="rId2"/>
          <a:stretch/>
        </p:blipFill>
        <p:spPr>
          <a:xfrm>
            <a:off x="611280" y="2141640"/>
            <a:ext cx="3735360" cy="3735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Neck_Abscess_Child_I_D_Pus_305SQ"/>
          <p:cNvPicPr/>
          <p:nvPr/>
        </p:nvPicPr>
        <p:blipFill>
          <a:blip r:embed="rId3"/>
          <a:stretch/>
        </p:blipFill>
        <p:spPr>
          <a:xfrm>
            <a:off x="4859280" y="2122560"/>
            <a:ext cx="374832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1000" y="1174680"/>
            <a:ext cx="80024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ог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кон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провод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n. alveolaris inferior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хемат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ли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че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кључив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емд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руг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ре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х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ист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ТЕРИГОМАНДИБУЛАРНОГ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8000" y="1139400"/>
            <a:ext cx="8748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ре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</a:t>
            </a:r>
            <a:r>
              <a:rPr b="0" lang="sr-RS" sz="1800" spc="-1" strike="noStrike">
                <a:solidFill>
                  <a:srgbClr val="025198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ву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ато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ж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sthmus fau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ат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ликов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ћ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отид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ж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usculus temporalis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ра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јућ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 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раор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о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andibulae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trigonum retromolare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а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ramus mandibulae</a:t>
            </a:r>
            <a:r>
              <a:rPr b="0" i="1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m. pterygoideus medialis</a:t>
            </a:r>
            <a:r>
              <a:rPr b="0" i="1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АФАРИНГЕАЛ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6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ар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г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одговорн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мњ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шћ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олова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упадљиви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кстраорал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ост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т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знат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лпац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вар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т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дње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пча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ук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зокож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ч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лес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ви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38-40°C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х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азу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мет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тев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т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руршк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тервенциј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РОТИДНОМАСЕТЕРИЧ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ОС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142640"/>
            <a:ext cx="6553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н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ње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мња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сетерич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пољ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ш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на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дре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 retromandibular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ж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тегну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јај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црв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луктуа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нстат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ормир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кута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от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жлезд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тиснут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вој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псул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њ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изм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ешко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ута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воре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л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у</a:t>
            </a:r>
            <a:r>
              <a:rPr b="0" lang="sr-Latn-R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ндибу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варај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чни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зо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по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илич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г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Pre-auricular_abscess"/>
          <p:cNvPicPr/>
          <p:nvPr/>
        </p:nvPicPr>
        <p:blipFill>
          <a:blip r:embed="rId2"/>
          <a:stretch/>
        </p:blipFill>
        <p:spPr>
          <a:xfrm>
            <a:off x="5940360" y="2781360"/>
            <a:ext cx="320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РАТЕМПОР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ТЕРИГОПАЛАТИНСКЕ ЈА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75016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 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седн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ратемпоралног</a:t>
            </a:r>
            <a:r>
              <a:rPr b="0" lang="sr-RS" sz="1600" spc="-1" strike="noStrike">
                <a:solidFill>
                  <a:srgbClr val="025198"/>
                </a:solidFill>
                <a:latin typeface="Arial"/>
              </a:rPr>
              <a:t> и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гопалатинског 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арафарингеалног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ид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лексу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мар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теригопалатинск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јам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стат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ббазал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несте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rotunduma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a ova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лепоочном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указу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аљ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ив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руг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окализа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к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јасн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граниче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езнат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налаз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над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игоматичн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лук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infratemporalis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 ptery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бог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блиских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топографск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днос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стовремено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хваћен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ss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infratempor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pter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y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gopalatina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озбиљних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омпликациј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енингити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мозг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ovale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foramen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spinosum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canali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25198"/>
                </a:solidFill>
                <a:latin typeface="Arial"/>
              </a:rPr>
              <a:t>rotundus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i="1" lang="sr-CS" sz="16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i="1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оширило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ндокранијуму</a:t>
            </a:r>
            <a:r>
              <a:rPr b="0" lang="sr-Latn-CS" sz="16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27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звод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нтра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25198"/>
                </a:solidFill>
                <a:latin typeface="Arial"/>
              </a:rPr>
              <a:t>екстаорал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рс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р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руленциј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окал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р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ђ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ј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азвој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рганиза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агуј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еланчевина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дбраном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резултат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целулар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хуморалне одбран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словљен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анатомским</a:t>
            </a:r>
            <a:r>
              <a:rPr b="1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пецифичностим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1" lang="en-US" sz="24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ЕКИХ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09520" y="148428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иноге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тежн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дира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sinusitis maxillaris</a:t>
            </a:r>
            <a:r>
              <a:rPr b="0" i="1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лиц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ца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рњих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ромаксилар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с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теригопалат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гу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т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бпериост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ње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и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у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49360" y="1774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РБ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" y="1091880"/>
            <a:ext cx="58849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пљ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и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ч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з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њункти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трузиј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граниче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ложе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толи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па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падљи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кретљивос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улбу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восл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ла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ит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сут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лавобољ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ећај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ти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лел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мећено са високом телесном 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а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уч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кло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чи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бсце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визиј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араназал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упљи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опход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ма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динир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з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6" descr="1260454e%20orbit%20infection%20abscess%20oedema%20erythema%20limitation%20eye%20movement%20proptosis%201"/>
          <p:cNvPicPr/>
          <p:nvPr/>
        </p:nvPicPr>
        <p:blipFill>
          <a:blip r:embed="rId2"/>
          <a:stretch/>
        </p:blipFill>
        <p:spPr>
          <a:xfrm>
            <a:off x="6175440" y="1628640"/>
            <a:ext cx="2860560" cy="1946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2462_303"/>
          <p:cNvPicPr/>
          <p:nvPr/>
        </p:nvPicPr>
        <p:blipFill>
          <a:blip r:embed="rId3"/>
          <a:stretch/>
        </p:blipFill>
        <p:spPr>
          <a:xfrm>
            <a:off x="6162840" y="3681360"/>
            <a:ext cx="28908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Л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6188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ифу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стресит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зив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енден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гранич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а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опасн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ш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латив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грожав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офацијалној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г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ги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довиц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25198"/>
                </a:solidFill>
                <a:latin typeface="Arial"/>
              </a:rPr>
              <a:t>(Ludowici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р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лик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The_course_of_phlegmon"/>
          <p:cNvPicPr/>
          <p:nvPr/>
        </p:nvPicPr>
        <p:blipFill>
          <a:blip r:embed="rId2"/>
          <a:stretch/>
        </p:blipFill>
        <p:spPr>
          <a:xfrm>
            <a:off x="5829480" y="3933720"/>
            <a:ext cx="3079440" cy="2363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ANd9GcSRWTq-pWOdYHMarIswVVhlo5fEAiHfKgWwhRujHFzACFNNx0QTwrVndg"/>
          <p:cNvPicPr/>
          <p:nvPr/>
        </p:nvPicPr>
        <p:blipFill>
          <a:blip r:embed="rId3"/>
          <a:stretch/>
        </p:blipFill>
        <p:spPr>
          <a:xfrm>
            <a:off x="6588000" y="1338120"/>
            <a:ext cx="2032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" y="1052280"/>
            <a:ext cx="9004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кл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вред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ло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лаз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н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азвиј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андибулар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менталн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бостра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брад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иличн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ди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ис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за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ж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с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ж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есни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недл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Читав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дигну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кор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чив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в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њ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блингвал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теч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р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х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криве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еличаст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ибринским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лаг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сећа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тл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ресту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)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7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етор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иперсалива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о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аће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з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рхтавиц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ој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убљење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ети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лаксалошћ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аб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њен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87868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ављ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нов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линич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л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олуц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сок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мперату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брзан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улс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ш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јаноз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а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л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лад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годиц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ст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лимич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мбинова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имптоми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о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легмон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илтра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вр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аск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јас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границ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раженој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орм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рожав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иво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дијастин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3480" indent="-2134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стој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пас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омбофлебити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25198"/>
                </a:solidFill>
                <a:latin typeface="Arial"/>
              </a:rPr>
              <a:t>v. jugularis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гуше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preview_html_75f62237"/>
          <p:cNvPicPr/>
          <p:nvPr/>
        </p:nvPicPr>
        <p:blipFill>
          <a:blip r:embed="rId2"/>
          <a:stretch/>
        </p:blipFill>
        <p:spPr>
          <a:xfrm>
            <a:off x="1428840" y="4548240"/>
            <a:ext cx="2522520" cy="2090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image008"/>
          <p:cNvPicPr/>
          <p:nvPr/>
        </p:nvPicPr>
        <p:blipFill>
          <a:blip r:embed="rId3"/>
          <a:stretch/>
        </p:blipFill>
        <p:spPr>
          <a:xfrm>
            <a:off x="4214880" y="4510080"/>
            <a:ext cx="3659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560" y="-3384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ЛЕГМОН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Д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СТ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7512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р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узроковач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каза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циљан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обијањ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зултат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биогра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именити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емотерапеути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оки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пектром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ејств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о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дузет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в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ер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изањ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брамбених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наг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ду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у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итаминске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диотоник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треби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цизија</a:t>
            </a:r>
            <a:r>
              <a:rPr b="0" lang="en-US" sz="18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Ludwig_s_Angina_ENT_009"/>
          <p:cNvPicPr/>
          <p:nvPr/>
        </p:nvPicPr>
        <p:blipFill>
          <a:blip r:embed="rId2"/>
          <a:stretch/>
        </p:blipFill>
        <p:spPr>
          <a:xfrm>
            <a:off x="5543640" y="3803760"/>
            <a:ext cx="2720880" cy="2638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ANd9GcQ0BkPjKyzkrHoQFBXlS8B82TCgqNjZgvaxmZPQkDNLUPleCbVe"/>
          <p:cNvPicPr/>
          <p:nvPr/>
        </p:nvPicPr>
        <p:blipFill>
          <a:blip r:embed="rId3"/>
          <a:stretch/>
        </p:blipFill>
        <p:spPr>
          <a:xfrm>
            <a:off x="5554800" y="1341360"/>
            <a:ext cx="27208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611280" y="1371600"/>
            <a:ext cx="648180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ематог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рек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25198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Хематоге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рчан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алиста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фекц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ештачких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глобов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Удаљ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жаришт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донтоге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с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Ludwig%2527s+Angina+4"/>
          <p:cNvPicPr/>
          <p:nvPr/>
        </p:nvPicPr>
        <p:blipFill>
          <a:blip r:embed="rId2"/>
          <a:stretch/>
        </p:blipFill>
        <p:spPr>
          <a:xfrm>
            <a:off x="5138640" y="3279600"/>
            <a:ext cx="37306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24000" y="1136520"/>
            <a:ext cx="8391240" cy="38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20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одор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ум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некротизирајућ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едијастин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тракран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з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вернозног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mediastinitis"/>
          <p:cNvPicPr/>
          <p:nvPr/>
        </p:nvPicPr>
        <p:blipFill>
          <a:blip r:embed="rId2"/>
          <a:stretch/>
        </p:blipFill>
        <p:spPr>
          <a:xfrm>
            <a:off x="4143240" y="3643200"/>
            <a:ext cx="405000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487440" y="260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82520" y="1136520"/>
            <a:ext cx="8961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упуратив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тромбофлебитис </a:t>
            </a:r>
            <a:r>
              <a:rPr b="1" i="1" lang="sr-Latn-RS" sz="2000" spc="-1" strike="noStrike">
                <a:solidFill>
                  <a:srgbClr val="025198"/>
                </a:solidFill>
                <a:latin typeface="Arial"/>
              </a:rPr>
              <a:t>v. jugularis internae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-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S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y </a:t>
            </a:r>
            <a:r>
              <a:rPr b="1" i="1" lang="en-US" sz="2000" spc="-1" strike="noStrike">
                <a:solidFill>
                  <a:srgbClr val="025198"/>
                </a:solidFill>
                <a:latin typeface="Arial"/>
              </a:rPr>
              <a:t>Lemierre</a:t>
            </a:r>
            <a:r>
              <a:rPr b="1" i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Значај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ерзистирајућ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актеријемија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лабост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л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кализован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мплик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етастатск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псцес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лу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моз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убрез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25198"/>
                </a:solidFill>
                <a:latin typeface="Arial"/>
              </a:rPr>
              <a:t>з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глобови</a:t>
            </a:r>
            <a:r>
              <a:rPr b="1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Calibri"/>
              </a:rPr>
              <a:t>Дијагноза</a:t>
            </a:r>
            <a:r>
              <a:rPr b="1" lang="sr-Latn-R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C</a:t>
            </a: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Т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с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контрас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2519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25198"/>
                </a:solidFill>
                <a:latin typeface="Calibri"/>
              </a:rPr>
              <a:t>М</a:t>
            </a:r>
            <a:r>
              <a:rPr b="0" i="1" lang="sr-Latn-RS" sz="2000" spc="-1" strike="noStrike">
                <a:solidFill>
                  <a:srgbClr val="025198"/>
                </a:solidFill>
                <a:latin typeface="Arial"/>
              </a:rPr>
              <a:t>RI</a:t>
            </a:r>
            <a:r>
              <a:rPr b="0" lang="hr-HR" sz="2000" spc="-1" strike="noStrike">
                <a:solidFill>
                  <a:srgbClr val="025198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Calibri"/>
              </a:rPr>
              <a:t>ангиограф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нтибиот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3-6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т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оспит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Case21.Neck_CT_Lemierre_Syndrome"/>
          <p:cNvPicPr/>
          <p:nvPr/>
        </p:nvPicPr>
        <p:blipFill>
          <a:blip r:embed="rId2"/>
          <a:stretch/>
        </p:blipFill>
        <p:spPr>
          <a:xfrm>
            <a:off x="5670720" y="1881360"/>
            <a:ext cx="311148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24000" y="1419120"/>
            <a:ext cx="61196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sr-Latn-R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Ерозиј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атер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арингеал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осто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Lud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w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ig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-ов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гин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псцедирајуће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имфаден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врату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шк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ептич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огућнос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уптур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аротиде</a:t>
            </a:r>
            <a:r>
              <a:rPr b="0" lang="sr-Latn-RS" sz="18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+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в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одвезива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a</a:t>
            </a:r>
            <a:r>
              <a:rPr b="0" i="1" lang="hr-HR" sz="1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025198"/>
                </a:solidFill>
                <a:latin typeface="Arial"/>
              </a:rPr>
              <a:t>caro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Леталитет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: 20-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Cartoid1"/>
          <p:cNvPicPr/>
          <p:nvPr/>
        </p:nvPicPr>
        <p:blipFill>
          <a:blip r:embed="rId2"/>
          <a:stretch/>
        </p:blipFill>
        <p:spPr>
          <a:xfrm>
            <a:off x="6227640" y="2220840"/>
            <a:ext cx="2865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рем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реклу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зазивач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остоје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гз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ич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пољ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реди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Ендоге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ганиз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Ре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тове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азивач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екундар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новљ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уг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Комбинова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јств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оузроковач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Латентн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зост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ђ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sr-Latn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МПЛИКАЦИЈЕ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ДОНТОГЕНИХ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24000" y="981000"/>
            <a:ext cx="5327640" cy="55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Директно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00000"/>
                </a:solidFill>
                <a:latin typeface="Arial"/>
              </a:rPr>
              <a:t>ширење</a:t>
            </a:r>
            <a:r>
              <a:rPr b="1" lang="hr-HR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per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Arial"/>
              </a:rPr>
              <a:t>continuitatem</a:t>
            </a:r>
            <a:r>
              <a:rPr b="1" i="1" lang="hr-HR" sz="18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Остеомијелитис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ви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анди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Изненађујућ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рет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изич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Претхо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фрактур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зрачење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бетес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тероидн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линичк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зент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јак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сцинтиграф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М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Етиолошк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дијагноз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хроничног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остеомијелитис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биопсија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: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антимикробно</a:t>
            </a:r>
            <a:r>
              <a:rPr b="0" lang="hr-HR" sz="1800" spc="-1" strike="noStrike">
                <a:solidFill>
                  <a:srgbClr val="025198"/>
                </a:solidFill>
                <a:latin typeface="Arial"/>
              </a:rPr>
              <a:t> 4-6 </a:t>
            </a:r>
            <a:r>
              <a:rPr b="0" lang="sr-CS" sz="1800" spc="-1" strike="noStrike">
                <a:solidFill>
                  <a:srgbClr val="025198"/>
                </a:solidFill>
                <a:latin typeface="Arial"/>
              </a:rPr>
              <a:t>нед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gr2"/>
          <p:cNvPicPr/>
          <p:nvPr/>
        </p:nvPicPr>
        <p:blipFill>
          <a:blip r:embed="rId2"/>
          <a:stretch/>
        </p:blipFill>
        <p:spPr>
          <a:xfrm>
            <a:off x="4859280" y="3429000"/>
            <a:ext cx="4176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68360" y="9079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IndianJOphthalmol_2013_61_7_349_109533_f1"/>
          <p:cNvPicPr/>
          <p:nvPr/>
        </p:nvPicPr>
        <p:blipFill>
          <a:blip r:embed="rId2"/>
          <a:srcRect l="525" t="17671" r="0" b="20503"/>
          <a:stretch/>
        </p:blipFill>
        <p:spPr>
          <a:xfrm>
            <a:off x="5343480" y="2273400"/>
            <a:ext cx="3689280" cy="18637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395280" y="0"/>
            <a:ext cx="8610480" cy="59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ректно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ширењ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ептичк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омбоза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авернозног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ин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пурулентни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синуситис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ацијална</a:t>
            </a:r>
            <a:r>
              <a:rPr b="1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25198"/>
                </a:solidFill>
                <a:latin typeface="Arial"/>
              </a:rPr>
              <a:t>фурункул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Одонтогени</a:t>
            </a:r>
            <a:r>
              <a:rPr b="0" lang="hr-HR" sz="2000" spc="-1" strike="noStrike" u="sng">
                <a:solidFill>
                  <a:srgbClr val="025198"/>
                </a:solidFill>
                <a:uFillTx/>
                <a:latin typeface="Arial"/>
              </a:rPr>
              <a:t> </a:t>
            </a:r>
            <a:r>
              <a:rPr b="0" lang="sr-CS" sz="2000" spc="-1" strike="noStrike" u="sng">
                <a:solidFill>
                  <a:srgbClr val="025198"/>
                </a:solidFill>
                <a:uFillTx/>
                <a:latin typeface="Arial"/>
              </a:rPr>
              <a:t>узро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ксиларн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гл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че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лавоб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вослик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отофоб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рбит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офтал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фталмоплегиј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н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ксте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дем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пил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чног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живца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варење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етину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=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убитак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2519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hr-HR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ДОНТОГЕНЕ</a:t>
            </a: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468360" y="1197000"/>
            <a:ext cx="835344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Индикациј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пућивање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пацијента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25198"/>
                </a:solidFill>
                <a:latin typeface="Arial"/>
              </a:rPr>
              <a:t>болн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рз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гресив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елул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пне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сфа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ширењ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убок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асцијал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фебрилите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gt;38º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јач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ризмус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размак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змеђу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екутић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&lt; 1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цм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ацијент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вероват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ћ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узимат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репоручен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неуспех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ицијалног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леч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ж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ремећено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опште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2519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компромитова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болесниц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дијабет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алкохоличар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потхрањени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муносупресивн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терапија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ХИВ</a:t>
            </a: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25198"/>
                </a:solidFill>
                <a:latin typeface="Arial"/>
              </a:rPr>
              <a:t>инфекција</a:t>
            </a:r>
            <a:r>
              <a:rPr b="1" lang="en-US" sz="1800" spc="-1" strike="noStrike">
                <a:solidFill>
                  <a:srgbClr val="025198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2519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4000" y="1052280"/>
            <a:ext cx="903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С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т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нак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знатног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ер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ст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ибр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т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ск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е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зм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травазал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ципит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ној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арактеристичн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леукоцита</a:t>
            </a:r>
            <a:r>
              <a:rPr b="0" lang="sr-Latn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Ф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легмо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дир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к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ерифокал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дем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и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омоћ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бактеријс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ерменат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ијалуронидаз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лизир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колн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еђућелијск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стор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Г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ангреноз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разви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гној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тич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уте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перинфекције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Х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мораг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хемораги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ч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в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лан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ритр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дијапедез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ешк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рвних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удо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ск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оцес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900" spc="-1" strike="noStrike">
                <a:solidFill>
                  <a:srgbClr val="025198"/>
                </a:solidFill>
                <a:latin typeface="Arial"/>
              </a:rPr>
              <a:t>Н</a:t>
            </a:r>
            <a:r>
              <a:rPr b="1" lang="sr-CS" sz="1900" spc="-1" strike="noStrike">
                <a:solidFill>
                  <a:srgbClr val="025198"/>
                </a:solidFill>
                <a:latin typeface="Arial"/>
              </a:rPr>
              <a:t>екротично</a:t>
            </a:r>
            <a:r>
              <a:rPr b="1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-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нифестуј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некрозом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уз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присуство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мале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количине</a:t>
            </a:r>
            <a:r>
              <a:rPr b="0" lang="sr-Latn-C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фибринозног</a:t>
            </a:r>
            <a:r>
              <a:rPr b="0" lang="en-US" sz="19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25198"/>
                </a:solidFill>
                <a:latin typeface="Arial"/>
              </a:rPr>
              <a:t>ексудата</a:t>
            </a:r>
            <a:r>
              <a:rPr b="0" lang="sr-RS" sz="19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ВРСТЕ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НА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ЗАПАЉ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Општ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en-U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ом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лесн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ромен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ној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лиц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метњам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крвоток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вом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ре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додат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шт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токсикац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окс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актериј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ептикопиемију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Локалн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наци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1" lang="sr-Latn-CS" sz="28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елзус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Гален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писали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ет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симптома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ок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tum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бол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do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црвенило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rub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вишењ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температур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calor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ремећај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функције</a:t>
            </a:r>
            <a:r>
              <a:rPr b="0" lang="sr-Latn-C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25198"/>
                </a:solidFill>
                <a:latin typeface="Arial"/>
              </a:rPr>
              <a:t>(functio lae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ИНФЕК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0360" y="1773000"/>
            <a:ext cx="835488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онтогени узроци у пределу лица и вилица су узрок инфекције у преко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90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дсто случајев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По учесталости узроци инфекције су најчешће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: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апик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екција после екстракције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отежано ницање умњак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(</a:t>
            </a:r>
            <a:r>
              <a:rPr b="0" i="1" lang="sr-CS" sz="2400" spc="-1" strike="noStrike">
                <a:solidFill>
                  <a:srgbClr val="025198"/>
                </a:solidFill>
                <a:latin typeface="Arial"/>
              </a:rPr>
              <a:t>dentition difficilis</a:t>
            </a:r>
            <a:r>
              <a:rPr b="0" i="1" lang="en-US" sz="24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маргинални пародонтитис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и заостаци коренова зуба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25198"/>
                </a:solidFill>
                <a:latin typeface="Arial"/>
              </a:rPr>
              <a:t>инфициране цисте и др</a:t>
            </a:r>
            <a:r>
              <a:rPr b="0" lang="en-US" sz="24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АПИКАЛ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АРОДОНТ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3628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дразумевам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нат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т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нтуз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уксаци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грејава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рушењ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емиј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териј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њ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па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ијес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тис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лази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ро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и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бактер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лаз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улп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бли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еменск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тервал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ећ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цео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фаз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ародонцију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ратк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кривен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ак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пик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ститис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зв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алвеолар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бсцесу</a:t>
            </a:r>
            <a:r>
              <a:rPr b="0" lang="sr-R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ПАРОДОНТАЛНИ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1619280"/>
            <a:ext cx="510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ен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достатк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ентогингив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ип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твар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нфекциј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отпомогнут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аргинал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разградњ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менце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екоректни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ломба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убним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спуним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)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ш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игијеном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р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 algn="just">
              <a:spcBef>
                <a:spcPts val="119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арактериш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сероз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нојн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џеп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вод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локалног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гингив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мају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ток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ћ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акутне</a:t>
            </a:r>
            <a:r>
              <a:rPr b="0" lang="sr-Latn-CS" sz="20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25198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2519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Tooth-Abscess-3"/>
          <p:cNvPicPr/>
          <p:nvPr/>
        </p:nvPicPr>
        <p:blipFill>
          <a:blip r:embed="rId2"/>
          <a:stretch/>
        </p:blipFill>
        <p:spPr>
          <a:xfrm>
            <a:off x="5516640" y="159876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ANd9GcRf8Tw1dhlLP9lbka1GUd6K6jqoiOuFPv5Fh6AvU-o9XIL01s0V"/>
          <p:cNvPicPr/>
          <p:nvPr/>
        </p:nvPicPr>
        <p:blipFill>
          <a:blip r:embed="rId3"/>
          <a:stretch/>
        </p:blipFill>
        <p:spPr>
          <a:xfrm>
            <a:off x="5516640" y="4076640"/>
            <a:ext cx="335268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0:25:21Z</dcterms:modified>
  <cp:revision>739</cp:revision>
  <dc:subject/>
  <dc:title>Diapositiva 1</dc:title>
</cp:coreProperties>
</file>